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E4E-AC87-44F2-BE47-D9014210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5F2-4272-4344-ABE7-0DFF8ADA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DD8-80FC-4172-98E5-289B65FD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C54-6212-44B0-B5BA-FC38ADDF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F38-C9C6-4E5E-BF2E-7FFFC367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2E2-3596-4F5B-856B-A79452EB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056-E8C3-4E30-AE4A-99FD9F6C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0D8-7658-4B5D-A9E3-187A31E3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8CC-558D-4701-A92D-3C58255B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0B0-DDBC-4281-9805-8A9E977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30F-DCE7-4F0F-9B7C-B911D96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FD1-B356-451B-AF9A-62B7817D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DBFA-4774-4284-9ACB-3BE7830A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Seed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s come from seeds. Each seed contains a tiny plant waiting for the right conditions 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rmi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hich means, begin to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05520" y="3657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2680" y="2666880"/>
            <a:ext cx="37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ide of a kidney b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Kidney Bean Seeds Need to Grow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ds wait to germinate until three needs are met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from the Sun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r (carbon-di-oxide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29400" y="1676520"/>
            <a:ext cx="220032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3520" y="4800600"/>
            <a:ext cx="2819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15228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beginning, the kidney bean seedling depends on the food  stored in the s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2103480" cy="313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3429000" y="2743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5040" y="2514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590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200" y="2362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11444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1864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609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the seed grows its own leaves, the seedling begins to make food through a proces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tosynthesi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3047760" cy="3810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33720" y="4952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46893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8769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620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0040" y="2057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286000"/>
            <a:ext cx="3200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ots push down and supply water to the plant. The stem and the new leaves push up toward the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s make their own food by using light energy from the sun, water from the soil and carbon-di-oxide from the air. This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tosynth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586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581280" cy="3143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76212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Kidney bean plant is big enough it will produce flower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22840" y="73188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18280" y="80820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when the bee brings pollen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3048120"/>
            <a:ext cx="11430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7621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it will pollinate the flowers and turn them into pods that contain seed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73356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2971800"/>
            <a:ext cx="190512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812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106668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and we will have more kidney beans to plant or enjoy as a meal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es and other green plants are like food factories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use photosynthesis to make the food they need to grow and reproduce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out them, human beings and animals would be without a food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2263680" cy="2903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05320" y="1523880"/>
            <a:ext cx="2286000" cy="329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324480" y="838080"/>
            <a:ext cx="2068560" cy="317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4495680"/>
            <a:ext cx="3154320" cy="2092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243828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4640" y="1983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22680" y="7318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3120" y="1224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080" y="3962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c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9320" y="4114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mp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5:22:52Z</dcterms:created>
  <dc:creator>Home</dc:creator>
  <dc:description/>
  <dc:language>en-US</dc:language>
  <cp:lastModifiedBy>ACox</cp:lastModifiedBy>
  <dcterms:modified xsi:type="dcterms:W3CDTF">2011-10-18T12:14:30Z</dcterms:modified>
  <cp:revision>22</cp:revision>
  <dc:subject/>
  <dc:title>PowerPoint Presentation</dc:title>
</cp:coreProperties>
</file>